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332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332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3343DA-97C4-4702-AC3C-844CFF7DF9B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0F51C6-09D2-4E93-9750-537F412E73B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17640" y="4403880"/>
            <a:ext cx="5607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marL="181080" indent="-181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F4E0EC-0250-424D-9047-429F1DF457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D20C45-9C51-4AD9-9899-0C22D89545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3F5D28-FE1B-447C-9FCD-DD887166FF6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E93FEB-E7F9-4A22-9A6F-2FA36AC28A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259160"/>
            <a:ext cx="5607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7CA2EC-DBCA-4735-9B50-4CD5BDAFC19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E05506-CADB-470C-86FD-D0B074025B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6720" y="4258800"/>
            <a:ext cx="63612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0ABD35-DDCA-4C4E-9621-ADB2794C3CF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CI Powerpoint 2ba"/>
          <p:cNvPicPr/>
          <p:nvPr/>
        </p:nvPicPr>
        <p:blipFill>
          <a:blip r:embed="rId2"/>
          <a:stretch/>
        </p:blipFill>
        <p:spPr>
          <a:xfrm>
            <a:off x="-181080" y="-52560"/>
            <a:ext cx="9506160" cy="693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CI Powerpoint 2ba"/>
          <p:cNvPicPr/>
          <p:nvPr/>
        </p:nvPicPr>
        <p:blipFill>
          <a:blip r:embed="rId2"/>
          <a:stretch/>
        </p:blipFill>
        <p:spPr>
          <a:xfrm>
            <a:off x="0" y="-79200"/>
            <a:ext cx="9505800" cy="69372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8172360" y="566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ccesscentre@healthforceontario.ca" TargetMode="External"/><Relationship Id="rId2" Type="http://schemas.openxmlformats.org/officeDocument/2006/relationships/hyperlink" Target="http://www.healthforceontario.ca/Jobs/AccessCentre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ntarioimmigration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357300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Helping Internationally Trained Individuals on their Profession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C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vember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66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580000" y="5518080"/>
            <a:ext cx="356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276720" y="1901880"/>
            <a:ext cx="2663640" cy="2147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1187280" y="476280"/>
            <a:ext cx="69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obal Experience Ontario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he Trade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pic>
        <p:nvPicPr>
          <p:cNvPr id="121" name="Picture 5" descr="MP900185001[1]"/>
          <p:cNvPicPr/>
          <p:nvPr/>
        </p:nvPicPr>
        <p:blipFill>
          <a:blip r:embed="rId1"/>
          <a:stretch/>
        </p:blipFill>
        <p:spPr>
          <a:xfrm>
            <a:off x="5970600" y="118728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197573[1]"/>
          <p:cNvPicPr/>
          <p:nvPr/>
        </p:nvPicPr>
        <p:blipFill>
          <a:blip r:embed="rId2"/>
          <a:stretch/>
        </p:blipFill>
        <p:spPr>
          <a:xfrm>
            <a:off x="127080" y="1255680"/>
            <a:ext cx="2502000" cy="34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MC900197791[1]"/>
          <p:cNvPicPr/>
          <p:nvPr/>
        </p:nvPicPr>
        <p:blipFill>
          <a:blip r:embed="rId3"/>
          <a:stretch/>
        </p:blipFill>
        <p:spPr>
          <a:xfrm>
            <a:off x="3583080" y="2698920"/>
            <a:ext cx="1950840" cy="2411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rades in Ontario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re are over 150 trades in Ontario. Trades can be Compulsory or 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ly 22 trades are Compulsory by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compulso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must obtain a Certificate of Qualification to practice in a compulsory trade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volunta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- You don’t need to be certified, but certification may give you many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b79c5"/>
                </a:solidFill>
                <a:latin typeface="Arial"/>
              </a:rPr>
              <a:t>The 22 Compulsory Trades</a:t>
            </a:r>
            <a:endParaRPr b="0" lang="en-US" sz="3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396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Construction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Domestic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Tower Cran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l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frigeration and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(low-rise) Sheet Metal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eet Metal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8320" y="1125360"/>
            <a:ext cx="44956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amf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ignment and Brake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and Collision Damage Repaire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Repaire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Electronic Accessory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uel and Electrical System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irsty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torcycl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ansmission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and Coach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Trailer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3b79c5"/>
                </a:solidFill>
                <a:latin typeface="Arial"/>
              </a:rPr>
              <a:t>How to get started in the trades:</a:t>
            </a:r>
            <a:r>
              <a:rPr b="0" i="1" lang="en-CA" sz="4000" spc="-1" strike="noStrike">
                <a:solidFill>
                  <a:srgbClr val="3b79c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two pathways for working in the trades in Ont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you have already worked in a trade, you can apply to write a Certificate of Qualification Exam which will enable you to work in a compulsory trade. It may help if you gather your documentation before you arrive in On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enticeship is a hands-on training program for people who want to work in a skilled trade. About 90 per cent of apprenticeship training is provided in the workplace by employers.  Other training may be given in a classroom by a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Zapf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25 apprenticeship offices across Ontario where you can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findhelp.ca/mtcu/appoff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mployment Ontario can help y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cide which pathway is best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get your credentials ass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pply to become certified, upgrade your skills, or get into 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5873760" cy="123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00720" y="836640"/>
            <a:ext cx="24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ontario.ca/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-800-387-56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ill be a regulatory body for the skilled trades in On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will reg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is required to work in each of the trades in O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o can be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conduct and ethical standard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0"/>
            <a:ext cx="86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b79c5"/>
                </a:solidFill>
                <a:latin typeface="Arial"/>
              </a:rPr>
              <a:t>The New College of Trades</a:t>
            </a:r>
            <a:r>
              <a:rPr b="1" lang="en-CA" sz="20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3b79c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745320" cy="1181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39640" y="458136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O will provide information about and referrals to the compulsory trades as part of its man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ebsite: http://www.collegeoftrades.c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Career Maps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explain in detail every step of the registration proces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apply to be license and which credential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ork experience requirements including Canadian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glish/French langu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ustry trends and labour market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censing fe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long the process may t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present, GEO develops and updates over 40 career maps for regulated professions and trades in partnership with regulatory bo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are available online at: 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ttp://www.ontarioimmigration.ca/en/ge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rcRect l="0" t="0" r="9112" b="0"/>
          <a:stretch/>
        </p:blipFill>
        <p:spPr>
          <a:xfrm>
            <a:off x="7667640" y="1628640"/>
            <a:ext cx="10857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619280" cy="1270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From Licensing to Employmen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718160" cy="344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rochure_PNP"/>
          <p:cNvPicPr/>
          <p:nvPr/>
        </p:nvPicPr>
        <p:blipFill>
          <a:blip r:embed="rId1"/>
          <a:stretch/>
        </p:blipFill>
        <p:spPr>
          <a:xfrm rot="20400000">
            <a:off x="1476360" y="1773000"/>
            <a:ext cx="1724040" cy="4030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515772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87280" y="1746360"/>
            <a:ext cx="6840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76040" indent="-176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rochure_Bridges"/>
          <p:cNvPicPr/>
          <p:nvPr/>
        </p:nvPicPr>
        <p:blipFill>
          <a:blip r:embed="rId2"/>
          <a:stretch/>
        </p:blipFill>
        <p:spPr>
          <a:xfrm rot="21000000">
            <a:off x="3058920" y="1341000"/>
            <a:ext cx="1722240" cy="402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rcRect l="119" t="0" r="0" b="0"/>
          <a:stretch/>
        </p:blipFill>
        <p:spPr>
          <a:xfrm rot="600000">
            <a:off x="4427640" y="1341000"/>
            <a:ext cx="1806480" cy="41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brochure_Languages"/>
          <p:cNvPicPr/>
          <p:nvPr/>
        </p:nvPicPr>
        <p:blipFill>
          <a:blip r:embed="rId4"/>
          <a:stretch/>
        </p:blipFill>
        <p:spPr>
          <a:xfrm rot="1200000">
            <a:off x="6011640" y="1628640"/>
            <a:ext cx="1724040" cy="4256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Program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3b79c5"/>
                </a:solidFill>
                <a:latin typeface="Arial"/>
              </a:rPr>
              <a:t>Bridge Training Programs in Ontario</a:t>
            </a:r>
            <a:endParaRPr b="0" lang="en-US" sz="3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127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What do Ontario’s Bridge Training Programs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vide training and opportunities to help internationally tra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s get registered to work in their profe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to facilitate systemic 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ighly-skilled newcomers get jobs in their area of expertis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idebar-reg_04"/>
          <p:cNvPicPr/>
          <p:nvPr/>
        </p:nvPicPr>
        <p:blipFill>
          <a:blip r:embed="rId1"/>
          <a:stretch/>
        </p:blipFill>
        <p:spPr>
          <a:xfrm>
            <a:off x="900000" y="2565360"/>
            <a:ext cx="1166760" cy="12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Vision"/>
          <p:cNvPicPr/>
          <p:nvPr/>
        </p:nvPicPr>
        <p:blipFill>
          <a:blip r:embed="rId2"/>
          <a:stretch/>
        </p:blipFill>
        <p:spPr>
          <a:xfrm>
            <a:off x="6732720" y="692280"/>
            <a:ext cx="1488960" cy="1190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348000" y="2276640"/>
            <a:ext cx="5594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ograms may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ademic and/or skills assess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nical or workplace exper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kills training or targeted academic training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eparation for a licence or certification exam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ccupation-specific language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ized learning plans to address specific training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0920" y="4149720"/>
            <a:ext cx="64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mployers, post-secondary institutions, occupational regulatory bodies, community organizations and other levels of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Physio_main"/>
          <p:cNvPicPr/>
          <p:nvPr/>
        </p:nvPicPr>
        <p:blipFill>
          <a:blip r:embed="rId3"/>
          <a:stretch/>
        </p:blipFill>
        <p:spPr>
          <a:xfrm>
            <a:off x="7236000" y="4508640"/>
            <a:ext cx="1584000" cy="647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1258920" y="4941720"/>
            <a:ext cx="648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citizenship.gov.on.ca/english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tp://www.ontarioimmigration.ca/en/working/OI_BRIDG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Internship and Mentorship Programs for ITI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179280" y="1341360"/>
            <a:ext cx="8785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toring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ff3300"/>
                </a:solidFill>
                <a:latin typeface="Arial"/>
              </a:rPr>
              <a:t>www.thementoringpartnershi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ing bring together recent skilled immigrants and established professionals in occupation-specific mentoring relationshi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s help break down employment barriers by offering industry-specific advice and cont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udies show that newcomers who go through the mentoring program earn more than their counterparts who do not participate in the mentoring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ntario Public Service (OPS) Internship Program for Internationally Trained Individuals (IT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ww.careerbridge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Internship Program for ITIs is designed specifically for professional newcomers to Ontario, so that they can earn valuable Canadian work experience in their professional fields within the 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administers the program in partnership with the Career Edge Organization through their Career Bridge Program which serves newcomers across the provi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1847880" cy="6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352600" cy="723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2008_New_Ministry_Trillium_Logo"/>
          <p:cNvPicPr/>
          <p:nvPr/>
        </p:nvPicPr>
        <p:blipFill>
          <a:blip r:embed="rId3"/>
          <a:stretch/>
        </p:blipFill>
        <p:spPr>
          <a:xfrm>
            <a:off x="539640" y="4869000"/>
            <a:ext cx="1943280" cy="637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459640" y="595008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lobal Experience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napshot of Immigration to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hallenges Newcomers Face When Settling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4 Non-Health Regulated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and Other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22 Compulsory T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are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Licens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gram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7417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fessional immigrant networks (PINs) are organized, volunteer-run member-based associations or networks created by and for immigrant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INs website improves the visibility of these networks and to makes it easier for immigrants, employers and other stakeholders to connect with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</a:rPr>
              <a:t>www.networksforimmigrant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eatures of the website include a searchable directory of networks, communication tools, a resource library and PINs success sto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tivities of PINs include networking events, mentoring, information sessions, professional development opportunities such as workshops, speaker events and training and connections to employment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2413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b79c5"/>
                </a:solidFill>
                <a:latin typeface="Arial"/>
              </a:rPr>
              <a:t>Employment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ntact Employment Ontario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ww.ontario.ca/employmen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1-800-387-5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ume writing, job interview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kills assessment, training and related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Get certified to work in a skilled trade and learn about apprenti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inistry of Training, Colleges and Universities/ Employment Ontario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findhelp.ca/mtcu/appoff.htm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131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OntarioImmigration.ca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27040"/>
            <a:ext cx="62643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unched in 2006, </a:t>
            </a:r>
            <a:r>
              <a:rPr b="1" lang="en-CA" sz="2800" spc="-1" strike="noStrike" u="sng">
                <a:solidFill>
                  <a:srgbClr val="3b79c5"/>
                </a:solidFill>
                <a:uFillTx/>
                <a:latin typeface="Arial"/>
              </a:rPr>
              <a:t>OntarioImmigration.c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the province’s web-based information resource for prospective and land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211880" y="1557360"/>
            <a:ext cx="170208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8532720" y="5950080"/>
            <a:ext cx="6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Referral Supports for </a:t>
            </a:r>
            <a:br>
              <a:rPr sz="3200"/>
            </a:b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Internationally Trained Individuals</a:t>
            </a:r>
            <a:br>
              <a:rPr sz="32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425080" cy="3703680"/>
        </p:xfrm>
        <a:graphic>
          <a:graphicData uri="http://schemas.openxmlformats.org/drawingml/2006/table">
            <a:tbl>
              <a:tblPr/>
              <a:tblGrid>
                <a:gridCol w="2808360"/>
                <a:gridCol w="1944720"/>
                <a:gridCol w="3672000"/>
              </a:tblGrid>
              <a:tr h="370368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es and Univers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Ag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 Public Libr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Experienc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Language Trai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Immigration Information Onlin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tial Assessment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Force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Nomine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Immigrant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Regulatory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How To Contact GEO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56500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one us at 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1-866-670-4094 or 416-327-9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TY: 416-327-9710 or 1866-388-2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-mail us at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EO@ontari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work"/>
          <p:cNvPicPr/>
          <p:nvPr/>
        </p:nvPicPr>
        <p:blipFill>
          <a:blip r:embed="rId1"/>
          <a:stretch/>
        </p:blipFill>
        <p:spPr>
          <a:xfrm>
            <a:off x="2771640" y="1557360"/>
            <a:ext cx="3662640" cy="755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8459640" y="5950080"/>
            <a:ext cx="5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Immigration – Ontario Context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3827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Between 2007 and 20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546,601 immigrants came to Ontario from more than 200 count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arly 78% intended to settle in the Greater Toront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73% indicated language ability in at least one of Canada’s two official langu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076720" y="4724280"/>
            <a:ext cx="3538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nada and Ontario receive immigrants from more than 200 countries, demonstrating a unique breadth of diversity among all the major immigrant accepting cou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3737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ource: Citizenship and Immigr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hart 16" descr=""/>
          <p:cNvPicPr/>
          <p:nvPr/>
        </p:nvPicPr>
        <p:blipFill>
          <a:blip r:embed="rId1"/>
          <a:stretch/>
        </p:blipFill>
        <p:spPr>
          <a:xfrm>
            <a:off x="4797360" y="987480"/>
            <a:ext cx="410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5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Global Experience Ontario (GEO)             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267920"/>
            <a:ext cx="611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is an Access Centre which provides information and assistanc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become registered to work in 14 non-health regulated profes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ship and mentorship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ser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keholders who work with 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anguage instr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ocial service and employment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 Fairs and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"/>
          <p:cNvPicPr/>
          <p:nvPr/>
        </p:nvPicPr>
        <p:blipFill>
          <a:blip r:embed="rId1"/>
          <a:srcRect l="119" t="0" r="0" b="0"/>
          <a:stretch/>
        </p:blipFill>
        <p:spPr>
          <a:xfrm>
            <a:off x="179280" y="1125360"/>
            <a:ext cx="19702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8360" y="6021360"/>
            <a:ext cx="10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The</a:t>
            </a:r>
            <a:r>
              <a:rPr b="1" lang="en-CA" sz="2400" spc="-1" strike="noStrike">
                <a:solidFill>
                  <a:srgbClr val="538ac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14 Non-Health Regulated Professions Include: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186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. Certified Engineering Techni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echn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. Certified Gener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. Certified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. Chartere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. Early Childhoo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. 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8.  Land Surve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.  Law (including Para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0. Profession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1. Professional Geo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. Social Work and Social  Servic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3.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4. Veterinary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Challenges Faced by Internationally Trained Individuals (ITIs)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ing Canadian Work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employment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ed to upgrade their language abilit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building a network or profession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during the professional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how to get licensed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providing original documents such as transcripts and degree from their country of origin on arr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alternative careers while pursuing their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ing examination/licensing/registration f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Health-Regulated</a:t>
            </a:r>
            <a:r>
              <a:rPr b="0" lang="en-CA" sz="28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Profession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Prof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ealthForceOntario (HFO) is an Access Centre that helps Internationally Educated Health Regulated Professionals with free information, advice, and support on the licensing process to practice in Ont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tact HF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63 Queen Street East, 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loor, Toronto, O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ephone: 1-800-596-40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cesscentre@healthforceontari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forceontario.ca/Jobs/AccessCentre.asp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Licensing Proces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ulator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l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ngu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ademic credential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and/or Canadian work exper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ation and/or practise 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itiona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s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532720" y="6021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Strategies to help internationally trained individuals along their path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y connected to the regulatory body or related professional associ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 regular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ulatory body and related professional/networking web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tarioimmigration.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dentify services, programs and tools that can help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ridge Tr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glish and French as a Secon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ccupational Specific Languag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tern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Immigrant Networks (P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nd a Career Map, fact sheets or other useful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nicipal Immigration Port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ontarioimmigration.ca/en/living/OI_HOW_LIVE_CIT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5:43:55Z</dcterms:created>
  <dc:creator>tullomo</dc:creator>
  <dc:description/>
  <dc:language>en-US</dc:language>
  <cp:lastModifiedBy>Levin, Leah (MCI)</cp:lastModifiedBy>
  <cp:lastPrinted>2012-11-07T21:36:36Z</cp:lastPrinted>
  <dcterms:modified xsi:type="dcterms:W3CDTF">2012-11-16T19:09:05Z</dcterms:modified>
  <cp:revision>545</cp:revision>
  <dc:subject/>
  <dc:title>Slide 1</dc:title>
</cp:coreProperties>
</file>